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C4B-B4FD-49E3-B2DA-C13B73D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E83-2E47-48E4-8F32-25A73CAF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3A-5510-45D1-B7D6-2603DAD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0FC-4765-49EC-BCB5-9AAA3B69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08D-F775-4624-83DE-22C6ADB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A14-5EB4-43E9-AC3F-E0F62AA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05B-CB6E-422C-8FA1-536A7E1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4D2-BEBA-48E3-A4DC-941676B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808-6B50-48B2-B001-403B573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D58-DEA9-400C-A6C5-6B1F545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57A-911A-483F-8880-E3A67DF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4FB-7D68-46E7-8B95-6687C49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8E6-DB49-44DB-ADD5-28DF2B9DED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ndeau3handi"/>
          <p:cNvPicPr/>
          <p:nvPr/>
        </p:nvPicPr>
        <p:blipFill>
          <a:blip r:embed="rId1"/>
          <a:stretch/>
        </p:blipFill>
        <p:spPr>
          <a:xfrm>
            <a:off x="2900520" y="5103000"/>
            <a:ext cx="3528720" cy="1079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549360"/>
            <a:ext cx="2376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ZOOM P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424240" y="441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ORMATION ENSEIGNANT HANDI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http://photos3.fotosearch.com/bthumb/IMZ/IMZ004/pgi0315.jpg"/>
          <p:cNvPicPr/>
          <p:nvPr/>
        </p:nvPicPr>
        <p:blipFill>
          <a:blip r:embed="rId2"/>
          <a:stretch/>
        </p:blipFill>
        <p:spPr>
          <a:xfrm>
            <a:off x="5219640" y="1865160"/>
            <a:ext cx="3097440" cy="2205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498600" y="1341360"/>
            <a:ext cx="842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rise en compte des difficultés de thermorég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é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tratégies pédagog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ccessibilité et adap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Balaruc 2010 (43)"/>
          <p:cNvPicPr/>
          <p:nvPr/>
        </p:nvPicPr>
        <p:blipFill>
          <a:blip r:embed="rId2"/>
          <a:stretch/>
        </p:blipFill>
        <p:spPr>
          <a:xfrm>
            <a:off x="0" y="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276720" y="5300640"/>
            <a:ext cx="4608360" cy="155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miter l’action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vrir la p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leurs c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3698600">
            <a:off x="4689000" y="413028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http://www.paradise-plongee.com/dmdocuments/Plongeur5.gif"/>
          <p:cNvPicPr/>
          <p:nvPr/>
        </p:nvPicPr>
        <p:blipFill>
          <a:blip r:embed="rId2"/>
          <a:stretch/>
        </p:blipFill>
        <p:spPr>
          <a:xfrm>
            <a:off x="684360" y="404640"/>
            <a:ext cx="59752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419640" y="836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ulté de maintenir ou de rétablir certaines constantes physiologiques quelles que soient les variations du milieu extérieur. </a:t>
            </a:r>
            <a:r>
              <a:rPr b="0" lang="fr-FR" sz="1800" spc="-1" strike="noStrike" u="sng">
                <a:solidFill>
                  <a:srgbClr val="333399"/>
                </a:solidFill>
                <a:uFillTx/>
                <a:latin typeface="Arial"/>
              </a:rPr>
              <a:t>(NEUROLOG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68360" y="1197000"/>
            <a:ext cx="2736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HOMEOSTA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50920" y="4292640"/>
            <a:ext cx="3240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HOMEOTHER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635280" y="4149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écessité de maintenir une température corporelle quasi-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755640" y="1773360"/>
            <a:ext cx="936720" cy="2376360"/>
          </a:xfrm>
          <a:prstGeom prst="upDownArrow">
            <a:avLst>
              <a:gd name="adj1" fmla="val 50000"/>
              <a:gd name="adj2" fmla="val 5050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 rot="4481400">
            <a:off x="6838560" y="1449000"/>
            <a:ext cx="1081080" cy="1439640"/>
          </a:xfrm>
          <a:prstGeom prst="lightningBolt">
            <a:avLst/>
          </a:prstGeom>
          <a:solidFill>
            <a:srgbClr val="c91f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427640" y="2492280"/>
            <a:ext cx="3960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Affection neurologique(handi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6084720" y="3429000"/>
            <a:ext cx="358920" cy="792000"/>
          </a:xfrm>
          <a:prstGeom prst="upArrow">
            <a:avLst>
              <a:gd name="adj1" fmla="val 50000"/>
              <a:gd name="adj2" fmla="val 551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084720" y="1700280"/>
            <a:ext cx="358920" cy="792000"/>
          </a:xfrm>
          <a:prstGeom prst="upArrow">
            <a:avLst>
              <a:gd name="adj1" fmla="val 50000"/>
              <a:gd name="adj2" fmla="val 551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Clipart - Plongee sous-marine - Cliparts - Image"/>
          <p:cNvPicPr/>
          <p:nvPr/>
        </p:nvPicPr>
        <p:blipFill>
          <a:blip r:embed="rId2"/>
          <a:stretch/>
        </p:blipFill>
        <p:spPr>
          <a:xfrm>
            <a:off x="1835280" y="1773360"/>
            <a:ext cx="1652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755640" y="64656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tte régulation de la température corporelle se fait au niveau de l’hypothalamus, capable de jouer un rôle à la fois neurologique et horm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692360" y="18439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'est notr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hermostat physiolog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755640" y="2521080"/>
            <a:ext cx="7819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hypothalamus reçoit des renseign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thermorécepteurs périphériques, des thermomètres biologiques contenus dans notre pe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'autres zones dans le sang renseignent sur la tempéra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erveau  va réagir à tous ces renseignements en déclenchant des mécanismes appropriés capables de fabriquer ou de détruire de la chal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11280" y="4941360"/>
            <a:ext cx="73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'ensemble de ces mécanismes se fait automatiquement sans que nous soyons obligés d'intervenir de façon consciente : ils sont automat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24000" y="21492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Les échanges de chaleur chez le plon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4032360" cy="2156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2124000" y="981000"/>
            <a:ext cx="720720" cy="1368360"/>
          </a:xfrm>
          <a:prstGeom prst="upArrow">
            <a:avLst>
              <a:gd name="adj1" fmla="val 50000"/>
              <a:gd name="adj2" fmla="val 47465"/>
            </a:avLst>
          </a:prstGeom>
          <a:solidFill>
            <a:srgbClr val="c91f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0800000">
            <a:off x="-360" y="2852640"/>
            <a:ext cx="2055960" cy="486000"/>
          </a:xfrm>
          <a:custGeom>
            <a:avLst/>
            <a:gdLst>
              <a:gd name="textAreaLeft" fmla="*/ 321120 w 2055960"/>
              <a:gd name="textAreaRight" fmla="*/ 1799280 w 20559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91f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076720" y="1413000"/>
            <a:ext cx="3384720" cy="1295280"/>
          </a:xfrm>
          <a:prstGeom prst="cloudCallout">
            <a:avLst>
              <a:gd name="adj1" fmla="val -62009"/>
              <a:gd name="adj2" fmla="val 4779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77164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91f0d"/>
                </a:solidFill>
                <a:latin typeface="Arial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50920" y="350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91f0d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3"/>
          <a:stretch/>
        </p:blipFill>
        <p:spPr>
          <a:xfrm>
            <a:off x="5435640" y="4365720"/>
            <a:ext cx="3384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95280" y="86076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91f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vasoconstriction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vaisseaux sanguins cutanés.(risques de gelures, les cellules cutanées, constamment privées d'oxygène et de nutriments, commencent à se détru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2322000"/>
            <a:ext cx="63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5280" y="2564280"/>
            <a:ext cx="799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91f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'augmentation de 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vitesse de fonctionnemen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de l'organisme (métabolisme). Le froid stimule la libération d’hormones par l'intermédiaire du système nerveux sympat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0000" y="260280"/>
            <a:ext cx="4507200" cy="459720"/>
          </a:xfrm>
          <a:prstGeom prst="rect">
            <a:avLst/>
          </a:prstGeom>
          <a:noFill/>
          <a:ln w="38160">
            <a:solidFill>
              <a:srgbClr val="c91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91f0d"/>
                </a:solidFill>
                <a:uFillTx/>
                <a:latin typeface="Arial"/>
              </a:rPr>
              <a:t>Pour réchauffer l'organism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4031280"/>
            <a:ext cx="8137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c91f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frissons : au niveau du cerveau, action sur  le tonus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usculai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. Contraction des muscles antagonistes. Fabriquer la chaleur nécessaire pour pallier au déficit therm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B022240"/>
          <p:cNvPicPr/>
          <p:nvPr/>
        </p:nvPicPr>
        <p:blipFill>
          <a:blip r:embed="rId2"/>
          <a:stretch/>
        </p:blipFill>
        <p:spPr>
          <a:xfrm>
            <a:off x="7740720" y="494172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-128520" y="980280"/>
            <a:ext cx="7076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Ouvertu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des vaisseaux sanguins de la peau, qui permet le refroidissement du s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54920" y="26028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our refroidir l'organ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2349360"/>
            <a:ext cx="84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'augmentation de la transpiration par l'intermédiaire de l'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évaporation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de la sueur, de refroidir notre organis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0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538200" y="260280"/>
            <a:ext cx="2016000" cy="863640"/>
          </a:xfrm>
          <a:custGeom>
            <a:avLst/>
            <a:gdLst>
              <a:gd name="textAreaLeft" fmla="*/ 252000 w 2016000"/>
              <a:gd name="textAreaRight" fmla="*/ 1764000 w 201600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38200" y="1413000"/>
            <a:ext cx="2016000" cy="863640"/>
          </a:xfrm>
          <a:custGeom>
            <a:avLst/>
            <a:gdLst>
              <a:gd name="textAreaLeft" fmla="*/ 252000 w 2016000"/>
              <a:gd name="textAreaRight" fmla="*/ 1764000 w 201600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91f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43280" y="298440"/>
            <a:ext cx="6083280" cy="2074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c91f0d"/>
                </a:solidFill>
                <a:uFillTx/>
                <a:latin typeface="Arial"/>
              </a:rPr>
              <a:t>La thermorégul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s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perturbée en cas de pathologies musculaires, neurolog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79280" y="3573360"/>
            <a:ext cx="87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ise en compte par les encadrants avec des object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écuri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3708360" y="4005360"/>
            <a:ext cx="19256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0920" y="476280"/>
            <a:ext cx="870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ise en compte par les encadr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ans les phases de prépara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. (Type de combinaison, lieu, durée d’équipement, exposition au vent, soleil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ans la gestion de la plon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ans la gestion de l’après-plongé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(déséquipement, réchauffement, protection du soleil, </a:t>
            </a:r>
            <a:r>
              <a:rPr b="1" lang="fr-FR" sz="2400" spc="-1" strike="noStrike" u="sng">
                <a:solidFill>
                  <a:srgbClr val="c91f0d"/>
                </a:solidFill>
                <a:uFillTx/>
                <a:latin typeface="Arial"/>
              </a:rPr>
              <a:t>hydrata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ise en compte de la spécificité de chaque plongeur, et de sa connaissance de lui-mê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Amphy 2010-2011 (5)"/>
          <p:cNvPicPr/>
          <p:nvPr/>
        </p:nvPicPr>
        <p:blipFill>
          <a:blip r:embed="rId2"/>
          <a:stretch/>
        </p:blipFill>
        <p:spPr>
          <a:xfrm>
            <a:off x="0" y="0"/>
            <a:ext cx="4527720" cy="603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IMG0016"/>
          <p:cNvPicPr/>
          <p:nvPr/>
        </p:nvPicPr>
        <p:blipFill>
          <a:blip r:embed="rId3"/>
          <a:stretch/>
        </p:blipFill>
        <p:spPr>
          <a:xfrm>
            <a:off x="3995640" y="0"/>
            <a:ext cx="4776840" cy="636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843280" y="189000"/>
            <a:ext cx="3816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mbi adap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8:51:29Z</dcterms:created>
  <dc:creator>Joflo</dc:creator>
  <dc:description/>
  <dc:language>en-US</dc:language>
  <cp:lastModifiedBy>A3430448</cp:lastModifiedBy>
  <dcterms:modified xsi:type="dcterms:W3CDTF">2016-11-16T10:04:01Z</dcterms:modified>
  <cp:revision>12</cp:revision>
  <dc:subject/>
  <dc:title>Diapositive 1</dc:title>
</cp:coreProperties>
</file>