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5.gif" ContentType="image/gif"/>
  <Override PartName="/ppt/media/image7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D4B-24BF-4C93-A600-B43E359F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8BE-5937-4D0B-B401-FC4F1215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A1BC-339B-4649-A994-177D98D4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4297-2045-4EAE-A621-E3113370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49C-A393-48EB-923F-347B8E65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E37-8177-4454-AFC3-D18DE3FB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AE2-FB49-44F3-A874-FE0FE0AC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BA9D-CD9F-4D33-AF0B-7AB93DEC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CE9-DFBB-442C-A846-E52913BE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798C-3521-43E0-820D-CAC6FE45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463-B17C-40CD-9A85-1BF6F56F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81A-D238-4033-8EBD-6383D156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1603-41E9-41D8-BEF9-E08C5DEE30A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andeau3handi"/>
          <p:cNvPicPr/>
          <p:nvPr/>
        </p:nvPicPr>
        <p:blipFill>
          <a:blip r:embed="rId1"/>
          <a:stretch/>
        </p:blipFill>
        <p:spPr>
          <a:xfrm>
            <a:off x="2900520" y="5103000"/>
            <a:ext cx="3528720" cy="10796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9640" y="549360"/>
            <a:ext cx="2376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ZOOM P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20560" y="1628640"/>
            <a:ext cx="345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PREV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DES ESCAR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EN PLONG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2286000" y="422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FORMATION ENSEIGNANT HANDI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5580000" y="404640"/>
            <a:ext cx="2764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250920" y="443880"/>
            <a:ext cx="8066160" cy="43599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Uniquement de la prév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mportance de la relation de confiance avec le plongeur, qui se connaî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mportance de la surveillance des plaies éventuelles, si le plongeur débutant n’ose pas en par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Bandeau3handi"/>
          <p:cNvPicPr/>
          <p:nvPr/>
        </p:nvPicPr>
        <p:blipFill>
          <a:blip r:embed="rId1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324000" y="475200"/>
            <a:ext cx="7958160" cy="10087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'escarre est une plaie de pression qui survient quand les tissus se retrouvent trop longtemps comprimés entre un plan dur et une saillie osseu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24000" y="2276640"/>
            <a:ext cx="3456000" cy="3240000"/>
            <a:chOff x="324000" y="2276640"/>
            <a:chExt cx="3456000" cy="3240000"/>
          </a:xfrm>
        </p:grpSpPr>
        <p:pic>
          <p:nvPicPr>
            <p:cNvPr id="48" name="Picture 8" descr="pression"/>
            <p:cNvPicPr/>
            <p:nvPr/>
          </p:nvPicPr>
          <p:blipFill>
            <a:blip r:embed="rId1"/>
            <a:stretch/>
          </p:blipFill>
          <p:spPr>
            <a:xfrm>
              <a:off x="324000" y="2276640"/>
              <a:ext cx="345600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9"/>
            <p:cNvSpPr/>
            <p:nvPr/>
          </p:nvSpPr>
          <p:spPr>
            <a:xfrm>
              <a:off x="3564000" y="4005360"/>
              <a:ext cx="14436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7"/>
          <p:cNvSpPr/>
          <p:nvPr/>
        </p:nvSpPr>
        <p:spPr>
          <a:xfrm>
            <a:off x="2484360" y="1860480"/>
            <a:ext cx="59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Zone comprim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rougeur apparaît à la surface de la p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pression écrase les vaisseaux sangu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sang n'irrigue plus les tiss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Hypoxie tissu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i elle se prolonge, les tissus comme les muscles et la graisse, meurent et se nécro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Bandeau3handi"/>
          <p:cNvPicPr/>
          <p:nvPr/>
        </p:nvPicPr>
        <p:blipFill>
          <a:blip r:embed="rId2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4"/>
          <p:cNvGrpSpPr/>
          <p:nvPr/>
        </p:nvGrpSpPr>
        <p:grpSpPr>
          <a:xfrm>
            <a:off x="0" y="981000"/>
            <a:ext cx="3397320" cy="3816360"/>
            <a:chOff x="0" y="981000"/>
            <a:chExt cx="3397320" cy="3816360"/>
          </a:xfrm>
        </p:grpSpPr>
        <p:pic>
          <p:nvPicPr>
            <p:cNvPr id="53" name="Picture 15" descr="Assi1"/>
            <p:cNvPicPr/>
            <p:nvPr/>
          </p:nvPicPr>
          <p:blipFill>
            <a:blip r:embed="rId1"/>
            <a:stretch/>
          </p:blipFill>
          <p:spPr>
            <a:xfrm>
              <a:off x="0" y="981000"/>
              <a:ext cx="3397320" cy="37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Oval 16"/>
            <p:cNvSpPr/>
            <p:nvPr/>
          </p:nvSpPr>
          <p:spPr>
            <a:xfrm>
              <a:off x="543240" y="4294080"/>
              <a:ext cx="502920" cy="50328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7"/>
          <p:cNvSpPr/>
          <p:nvPr/>
        </p:nvSpPr>
        <p:spPr>
          <a:xfrm>
            <a:off x="2843280" y="555480"/>
            <a:ext cx="601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ition assise à longueur de journée qui impose des pressions importantes sur les os des fesses, des tal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paralysie, l'absence de mobilité et de sensibilité au niveau de la peau ne permet pas d'alerter et de faire les micromouvements qui soulagent d'habitude les points d'app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8"/>
          <p:cNvSpPr/>
          <p:nvPr/>
        </p:nvSpPr>
        <p:spPr>
          <a:xfrm rot="12502200">
            <a:off x="683640" y="4723920"/>
            <a:ext cx="1368360" cy="360360"/>
          </a:xfrm>
          <a:prstGeom prst="rightArrow">
            <a:avLst>
              <a:gd name="adj1" fmla="val 50000"/>
              <a:gd name="adj2" fmla="val 9493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1835280" y="3860640"/>
            <a:ext cx="720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0"/>
          <p:cNvSpPr/>
          <p:nvPr/>
        </p:nvSpPr>
        <p:spPr>
          <a:xfrm rot="15189000">
            <a:off x="1475280" y="4076640"/>
            <a:ext cx="1368360" cy="360360"/>
          </a:xfrm>
          <a:prstGeom prst="rightArrow">
            <a:avLst>
              <a:gd name="adj1" fmla="val 50000"/>
              <a:gd name="adj2" fmla="val 9493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2" descr="sang"/>
          <p:cNvPicPr/>
          <p:nvPr/>
        </p:nvPicPr>
        <p:blipFill>
          <a:blip r:embed="rId2"/>
          <a:stretch/>
        </p:blipFill>
        <p:spPr>
          <a:xfrm>
            <a:off x="3419640" y="2565360"/>
            <a:ext cx="5433840" cy="271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3"/>
          <p:cNvSpPr/>
          <p:nvPr/>
        </p:nvSpPr>
        <p:spPr>
          <a:xfrm>
            <a:off x="3059280" y="3573360"/>
            <a:ext cx="43308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 rot="13081800">
            <a:off x="2123640" y="3499560"/>
            <a:ext cx="1368360" cy="360360"/>
          </a:xfrm>
          <a:prstGeom prst="rightArrow">
            <a:avLst>
              <a:gd name="adj1" fmla="val 50000"/>
              <a:gd name="adj2" fmla="val 9493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8532720" y="4005360"/>
            <a:ext cx="360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6" descr="Bandeau3handi"/>
          <p:cNvPicPr/>
          <p:nvPr/>
        </p:nvPicPr>
        <p:blipFill>
          <a:blip r:embed="rId3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250920" y="795240"/>
            <a:ext cx="5833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'hypoxie tissulaire ne se voit pas directement, elle apparaît d’abord en profonde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n en constate les conséquences lorsque l'escarre apparaî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lle apparaît très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Elle se soigne naturellement en quelques mois, à l’hô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6130800" y="476280"/>
            <a:ext cx="3013200" cy="4824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Bandeau3handi"/>
          <p:cNvPicPr/>
          <p:nvPr/>
        </p:nvPicPr>
        <p:blipFill>
          <a:blip r:embed="rId2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mark-escarres14"/>
          <p:cNvPicPr/>
          <p:nvPr/>
        </p:nvPicPr>
        <p:blipFill>
          <a:blip r:embed="rId1"/>
          <a:stretch/>
        </p:blipFill>
        <p:spPr>
          <a:xfrm>
            <a:off x="324000" y="189000"/>
            <a:ext cx="3984480" cy="298908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7"/>
          <p:cNvSpPr/>
          <p:nvPr/>
        </p:nvSpPr>
        <p:spPr>
          <a:xfrm>
            <a:off x="3286080" y="2543040"/>
            <a:ext cx="257184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3286080" y="2543040"/>
            <a:ext cx="257184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3286080" y="2543040"/>
            <a:ext cx="257184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3286080" y="2543040"/>
            <a:ext cx="257184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Escarre-fesse"/>
          <p:cNvPicPr/>
          <p:nvPr/>
        </p:nvPicPr>
        <p:blipFill>
          <a:blip r:embed="rId2"/>
          <a:stretch/>
        </p:blipFill>
        <p:spPr>
          <a:xfrm>
            <a:off x="4500720" y="260280"/>
            <a:ext cx="3990960" cy="275292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2"/>
          <p:cNvSpPr/>
          <p:nvPr/>
        </p:nvSpPr>
        <p:spPr>
          <a:xfrm>
            <a:off x="3324240" y="251460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3324240" y="251460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escarres-photos"/>
          <p:cNvPicPr/>
          <p:nvPr/>
        </p:nvPicPr>
        <p:blipFill>
          <a:blip r:embed="rId3"/>
          <a:stretch/>
        </p:blipFill>
        <p:spPr>
          <a:xfrm>
            <a:off x="468360" y="3213000"/>
            <a:ext cx="3495600" cy="25718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5"/>
          <p:cNvSpPr/>
          <p:nvPr/>
        </p:nvSpPr>
        <p:spPr>
          <a:xfrm>
            <a:off x="3924360" y="3299040"/>
            <a:ext cx="4871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ade 1 : Érythè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ade 2 : Perte de la p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ade 3 : Nécrose, croûte noire non douloure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ade 4 : Ulcération profonde avec atteinte osseuse ou articulai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7" descr="Bandeau3handi"/>
          <p:cNvPicPr/>
          <p:nvPr/>
        </p:nvPicPr>
        <p:blipFill>
          <a:blip r:embed="rId4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3"/>
          <p:cNvSpPr/>
          <p:nvPr/>
        </p:nvSpPr>
        <p:spPr>
          <a:xfrm>
            <a:off x="1763640" y="442800"/>
            <a:ext cx="5834160" cy="22269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carte RIFAP à 12€ ne sert à r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Uniquement de la prév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900000" y="3213000"/>
            <a:ext cx="7848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On transpose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sans exceptio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les systèmes de soins propres aux PESH sur toutes les phases sensibles (Durée, immobilité, humidit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6" descr="Bandeau3handi"/>
          <p:cNvPicPr/>
          <p:nvPr/>
        </p:nvPicPr>
        <p:blipFill>
          <a:blip r:embed="rId1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poissons043"/>
          <p:cNvPicPr/>
          <p:nvPr/>
        </p:nvPicPr>
        <p:blipFill>
          <a:blip r:embed="rId2"/>
          <a:stretch/>
        </p:blipFill>
        <p:spPr>
          <a:xfrm>
            <a:off x="3132000" y="6093000"/>
            <a:ext cx="601200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COUSSIN_ANTI%20ESCARRE_FLOTTAISON_SECHE"/>
          <p:cNvPicPr/>
          <p:nvPr/>
        </p:nvPicPr>
        <p:blipFill>
          <a:blip r:embed="rId1"/>
          <a:stretch/>
        </p:blipFill>
        <p:spPr>
          <a:xfrm>
            <a:off x="5435640" y="4927680"/>
            <a:ext cx="3522600" cy="1930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Photos Bala 2011 (103)"/>
          <p:cNvPicPr/>
          <p:nvPr/>
        </p:nvPicPr>
        <p:blipFill>
          <a:blip r:embed="rId2"/>
          <a:stretch/>
        </p:blipFill>
        <p:spPr>
          <a:xfrm>
            <a:off x="0" y="0"/>
            <a:ext cx="6588000" cy="49402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1"/>
          <p:cNvSpPr/>
          <p:nvPr/>
        </p:nvSpPr>
        <p:spPr>
          <a:xfrm rot="20730600">
            <a:off x="3132000" y="1988640"/>
            <a:ext cx="5112000" cy="289080"/>
          </a:xfrm>
          <a:prstGeom prst="leftArrow">
            <a:avLst>
              <a:gd name="adj1" fmla="val 50000"/>
              <a:gd name="adj2" fmla="val 44209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2"/>
          <p:cNvSpPr/>
          <p:nvPr/>
        </p:nvSpPr>
        <p:spPr>
          <a:xfrm rot="20730600">
            <a:off x="5292720" y="4220640"/>
            <a:ext cx="3311640" cy="289080"/>
          </a:xfrm>
          <a:prstGeom prst="leftArrow">
            <a:avLst>
              <a:gd name="adj1" fmla="val 50000"/>
              <a:gd name="adj2" fmla="val 286395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Bandeau3handi"/>
          <p:cNvPicPr/>
          <p:nvPr/>
        </p:nvPicPr>
        <p:blipFill>
          <a:blip r:embed="rId3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5" descr="2012-EH1-Narbonne (33)"/>
          <p:cNvPicPr/>
          <p:nvPr/>
        </p:nvPicPr>
        <p:blipFill>
          <a:blip r:embed="rId1"/>
          <a:stretch/>
        </p:blipFill>
        <p:spPr>
          <a:xfrm>
            <a:off x="-612720" y="0"/>
            <a:ext cx="4640040" cy="45813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8"/>
          <p:cNvSpPr/>
          <p:nvPr/>
        </p:nvSpPr>
        <p:spPr>
          <a:xfrm rot="6056400">
            <a:off x="503640" y="4904640"/>
            <a:ext cx="2087640" cy="289080"/>
          </a:xfrm>
          <a:prstGeom prst="leftArrow">
            <a:avLst>
              <a:gd name="adj1" fmla="val 50000"/>
              <a:gd name="adj2" fmla="val 18054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CIMG0019"/>
          <p:cNvPicPr/>
          <p:nvPr/>
        </p:nvPicPr>
        <p:blipFill>
          <a:blip r:embed="rId2"/>
          <a:stretch/>
        </p:blipFill>
        <p:spPr>
          <a:xfrm>
            <a:off x="3419640" y="0"/>
            <a:ext cx="5724360" cy="47829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1"/>
          <p:cNvSpPr/>
          <p:nvPr/>
        </p:nvSpPr>
        <p:spPr>
          <a:xfrm rot="7992000">
            <a:off x="1476000" y="5227200"/>
            <a:ext cx="3311640" cy="289080"/>
          </a:xfrm>
          <a:prstGeom prst="leftArrow">
            <a:avLst>
              <a:gd name="adj1" fmla="val 50000"/>
              <a:gd name="adj2" fmla="val 286395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3"/>
          <p:cNvSpPr/>
          <p:nvPr/>
        </p:nvSpPr>
        <p:spPr>
          <a:xfrm>
            <a:off x="6227640" y="4005360"/>
            <a:ext cx="1079640" cy="115236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4" descr="Bandeau3handi"/>
          <p:cNvPicPr/>
          <p:nvPr/>
        </p:nvPicPr>
        <p:blipFill>
          <a:blip r:embed="rId3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COUSSIN_ANTI%20ESCARRE_FLOTTAISON_SECHE"/>
          <p:cNvPicPr/>
          <p:nvPr/>
        </p:nvPicPr>
        <p:blipFill>
          <a:blip r:embed="rId1"/>
          <a:stretch/>
        </p:blipFill>
        <p:spPr>
          <a:xfrm>
            <a:off x="395280" y="0"/>
            <a:ext cx="3522600" cy="1930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395280" y="1885680"/>
            <a:ext cx="8066160" cy="43599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Uniquement de la prév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otections du plongeur, de sa peau fragile et de son matériel.(fauteuil, coussin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otéger de l’eau en retour de plongé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ragilité de la p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Bandeau3handi"/>
          <p:cNvPicPr/>
          <p:nvPr/>
        </p:nvPicPr>
        <p:blipFill>
          <a:blip r:embed="rId2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orque-1"/>
          <p:cNvPicPr/>
          <p:nvPr/>
        </p:nvPicPr>
        <p:blipFill>
          <a:blip r:embed="rId3"/>
          <a:stretch/>
        </p:blipFill>
        <p:spPr>
          <a:xfrm>
            <a:off x="7956720" y="189000"/>
            <a:ext cx="104760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08:18:52Z</dcterms:created>
  <dc:creator>Joflo</dc:creator>
  <dc:description/>
  <dc:language>en-US</dc:language>
  <cp:lastModifiedBy>A3430448</cp:lastModifiedBy>
  <dcterms:modified xsi:type="dcterms:W3CDTF">2016-11-16T10:03:25Z</dcterms:modified>
  <cp:revision>15</cp:revision>
  <dc:subject/>
  <dc:title>Diapositive 1</dc:title>
</cp:coreProperties>
</file>