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D46-AB39-4458-9E30-9555757E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64B-5973-4524-8186-070FE22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F37-0460-42AE-9FAB-27E69CEF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883-14DE-4C38-A822-2B34B129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4F2-8C79-4139-AFFD-A36D4555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66C-9C83-4EDD-A45E-3D3183C9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825-7AEC-4328-B3A9-4654EFEF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090-106D-45A3-92A7-5FE10C1E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B9E-AEBA-4180-9B25-95016569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339-7550-43E3-9CB6-D43D5CAA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9A3-ED90-4E2A-BA51-ED2F0E3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7AF-C4AB-4991-A9D9-B4241AD7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A3A3-EE72-4450-A043-E9CC7F9FE58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outimages.com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Maldives Novembre 2008 (277)"/>
          <p:cNvPicPr/>
          <p:nvPr/>
        </p:nvPicPr>
        <p:blipFill>
          <a:blip r:embed="rId2"/>
          <a:stretch/>
        </p:blipFill>
        <p:spPr>
          <a:xfrm>
            <a:off x="2682720" y="1554120"/>
            <a:ext cx="3778560" cy="2833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116000" y="4508640"/>
            <a:ext cx="725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Franklin Gothic Demi"/>
              </a:rPr>
              <a:t>Extraits des pistes pédagogiques, questionnements sur la notion de handicap. Florent LALANNE MFEH1 HANDI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1116000" y="304920"/>
            <a:ext cx="70563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Formation encadrant handi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LONGEURS EN SITUATION 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252360" y="-25560"/>
            <a:ext cx="9396360" cy="688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Bandeau3handi"/>
          <p:cNvPicPr/>
          <p:nvPr/>
        </p:nvPicPr>
        <p:blipFill>
          <a:blip r:embed="rId2"/>
          <a:stretch/>
        </p:blipFill>
        <p:spPr>
          <a:xfrm>
            <a:off x="-180000" y="6108120"/>
            <a:ext cx="24476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6875640" y="3976560"/>
            <a:ext cx="2062080" cy="2541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Bandeau3handi"/>
          <p:cNvPicPr/>
          <p:nvPr/>
        </p:nvPicPr>
        <p:blipFill>
          <a:blip r:embed="rId2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0"/>
          <p:cNvSpPr/>
          <p:nvPr/>
        </p:nvSpPr>
        <p:spPr>
          <a:xfrm>
            <a:off x="1187280" y="4046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 Black"/>
              </a:rPr>
              <a:t>Histoire des m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1"/>
          <p:cNvSpPr/>
          <p:nvPr/>
        </p:nvSpPr>
        <p:spPr>
          <a:xfrm>
            <a:off x="179280" y="1193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Début 2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 Black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: préfixes privati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invalide, impotent, incap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3"/>
          <p:cNvSpPr/>
          <p:nvPr/>
        </p:nvSpPr>
        <p:spPr>
          <a:xfrm>
            <a:off x="1258920" y="3645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70ies: intervention de l’Etat avec des lois, qui reconnaissent le statut de « Travailleur Handicapé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4"/>
          <p:cNvSpPr/>
          <p:nvPr/>
        </p:nvSpPr>
        <p:spPr>
          <a:xfrm>
            <a:off x="1258920" y="24210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Entre-deux guerres: montée en puissance du phénomène associat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2"/>
          <p:cNvSpPr/>
          <p:nvPr/>
        </p:nvSpPr>
        <p:spPr>
          <a:xfrm>
            <a:off x="324000" y="2602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Années 80: voient apparaître de nouvelles défin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1042920" y="1351080"/>
            <a:ext cx="6481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 Black"/>
              </a:rPr>
              <a:t>Dr W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La déficience appartient à la perso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Le handicap provient de l’inadéquation avec l’environn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1"/>
          <p:cNvSpPr/>
          <p:nvPr/>
        </p:nvSpPr>
        <p:spPr>
          <a:xfrm>
            <a:off x="1042920" y="3809880"/>
            <a:ext cx="6481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Cette nomenclature est validée par l’OMS, et prend une dimension d’acceptation planét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7093080" y="2057400"/>
            <a:ext cx="1509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0"/>
          <p:cNvSpPr/>
          <p:nvPr/>
        </p:nvSpPr>
        <p:spPr>
          <a:xfrm>
            <a:off x="900000" y="476280"/>
            <a:ext cx="648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Comic Sans MS"/>
              </a:rPr>
              <a:t>En 1990, l’OMS change son vocabula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1"/>
          <p:cNvSpPr/>
          <p:nvPr/>
        </p:nvSpPr>
        <p:spPr>
          <a:xfrm>
            <a:off x="233280" y="1979640"/>
            <a:ext cx="7921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Le handicap est toujours le produit de 2 facte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Une personne avec une défi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Des barrières environnementales, culturelles et sociales, règlementaires, que la personne ne peut pas franch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1"/>
          <p:cNvSpPr/>
          <p:nvPr/>
        </p:nvSpPr>
        <p:spPr>
          <a:xfrm>
            <a:off x="611280" y="836640"/>
            <a:ext cx="820872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La situation de handicap n’est donc pas qu’une caractéristique de la person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Black"/>
              </a:rPr>
              <a:t>Elle est le résultat de l’interaction entre ses caractéristiques personnelles et son environn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6516720" y="1844640"/>
            <a:ext cx="1944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246320" y="50148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Black"/>
              </a:rPr>
              <a:t>Loi de 2005: fondement législ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68360" y="121608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 Black"/>
              </a:rPr>
              <a:t>La loi n°2005-102 pour l'égalité des droits et des chances, la participation et la citoyenneté des personnes handicap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011600" y="2836800"/>
            <a:ext cx="574884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Rappel des droits fondamen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Définition du handic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66352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ttp://informations.handicap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"/>
          <p:cNvPicPr/>
          <p:nvPr/>
        </p:nvPicPr>
        <p:blipFill>
          <a:blip r:embed="rId2"/>
          <a:stretch/>
        </p:blipFill>
        <p:spPr>
          <a:xfrm>
            <a:off x="7464600" y="4460760"/>
            <a:ext cx="9331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"/>
          <p:cNvPicPr/>
          <p:nvPr/>
        </p:nvPicPr>
        <p:blipFill>
          <a:blip r:embed="rId1"/>
          <a:stretch/>
        </p:blipFill>
        <p:spPr>
          <a:xfrm>
            <a:off x="7308720" y="4924440"/>
            <a:ext cx="1079640" cy="130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Bandeau3handi"/>
          <p:cNvPicPr/>
          <p:nvPr/>
        </p:nvPicPr>
        <p:blipFill>
          <a:blip r:embed="rId2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861120" y="404640"/>
            <a:ext cx="41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Black"/>
              </a:rPr>
              <a:t>Définition du handic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539640" y="1413000"/>
            <a:ext cx="79930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Black"/>
              </a:rPr>
              <a:t>« Constitue un handicap, au sens de la présente loi, toute limitation d'activité ou restriction de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 Black"/>
              </a:rPr>
              <a:t>participation à la vie en société subie dans son environnement</a:t>
            </a:r>
            <a:r>
              <a:rPr b="1" lang="fr-FR" sz="1800" spc="-1" strike="noStrike">
                <a:solidFill>
                  <a:srgbClr val="000000"/>
                </a:solidFill>
                <a:latin typeface="Arial Black"/>
              </a:rPr>
              <a:t> par une personne en raison d'une altération substantielle, durable ou définitive d'une ou plusieurs fonctions physiques, sensorielles, mentales, cognitives ou psychiques, d'un polyhandicap ou d'un trouble de santé invalidant.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0"/>
          <p:cNvSpPr/>
          <p:nvPr/>
        </p:nvSpPr>
        <p:spPr>
          <a:xfrm>
            <a:off x="971640" y="549360"/>
            <a:ext cx="71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Black"/>
              </a:rPr>
              <a:t>Question centr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Comment faire exister des liens sociaux, des liens de la tribu des plongeurs, avec des gens dont je souhaite faire valoir la spécific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Bandeau3handi"/>
          <p:cNvPicPr/>
          <p:nvPr/>
        </p:nvPicPr>
        <p:blipFill>
          <a:blip r:embed="rId1"/>
          <a:stretch/>
        </p:blipFill>
        <p:spPr>
          <a:xfrm>
            <a:off x="-720" y="5943600"/>
            <a:ext cx="2987640" cy="914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0"/>
          <p:cNvSpPr/>
          <p:nvPr/>
        </p:nvSpPr>
        <p:spPr>
          <a:xfrm>
            <a:off x="1042920" y="836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Black"/>
              </a:rPr>
              <a:t>Proposition de travail: PEDAG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1"/>
          <p:cNvSpPr/>
          <p:nvPr/>
        </p:nvSpPr>
        <p:spPr>
          <a:xfrm>
            <a:off x="900000" y="2060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Construire les particularités de chaque défi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2"/>
          <p:cNvSpPr/>
          <p:nvPr/>
        </p:nvSpPr>
        <p:spPr>
          <a:xfrm>
            <a:off x="1042920" y="44020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S’intéresser à chaque plongeur, plutôt que de ranger les personnes concernées dans un ensemble indistin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3"/>
          <p:cNvSpPr/>
          <p:nvPr/>
        </p:nvSpPr>
        <p:spPr>
          <a:xfrm>
            <a:off x="1042920" y="33274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Les comprendre pour enclencher un travail technique et pédagog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cliparts.toutimages.com/animaux_aquatiques/hippocampes/00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492280"/>
            <a:ext cx="861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26:36Z</dcterms:created>
  <dc:creator>Joflo</dc:creator>
  <dc:description/>
  <dc:language>en-US</dc:language>
  <cp:lastModifiedBy>A3430448</cp:lastModifiedBy>
  <dcterms:modified xsi:type="dcterms:W3CDTF">2016-11-16T10:00:48Z</dcterms:modified>
  <cp:revision>4</cp:revision>
  <dc:subject/>
  <dc:title>Diapositive 1</dc:title>
</cp:coreProperties>
</file>